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C63-76C2-4A0A-9F86-272D8FA6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575-6F84-42CA-91CB-512C9FC3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571-6ADB-46D9-A6B3-EB8E954C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D59-00D0-4B5B-A9F9-00C3FD60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BC4-98B3-4A5E-82C0-696A03F3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1C2-6689-4A9E-AFC0-AE286112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8C8-5E14-4133-A160-AA797463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CD6-9493-4501-B629-0C640ACF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ACE-5DF1-4E08-8D3C-B4172F8B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C1B-B6C6-4D86-9F42-580376C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80B-9C5D-4CF7-A622-EBFB11C9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993-3705-4305-8A1B-7B86F89F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7251-9D39-4C65-BA52-418D8E3B5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c3300"/>
                </a:solidFill>
                <a:latin typeface="Times New Roman"/>
              </a:rPr>
              <a:t>Жасушаның зерттелу тарихы, жасуша теориясы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agesCAJMG4N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539640" y="0"/>
            <a:ext cx="5256360" cy="2205000"/>
          </a:xfrm>
          <a:prstGeom prst="cloudCallout">
            <a:avLst>
              <a:gd name="adj1" fmla="val -51629"/>
              <a:gd name="adj2" fmla="val 83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Жасушаны  зерттейтін ғылым. 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</a:t>
            </a: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 –грекше: цитос-жасуша, логос- ғы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71640" y="2924280"/>
            <a:ext cx="223200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Times New Roman"/>
              </a:rPr>
              <a:t>Салал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3573360"/>
            <a:ext cx="223200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771640" y="5489640"/>
            <a:ext cx="259236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хи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643280" y="1773360"/>
            <a:ext cx="2592720" cy="15127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гене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27640" y="3068640"/>
            <a:ext cx="2916360" cy="162864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эк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0" y="5013360"/>
            <a:ext cx="2411280" cy="126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Молекула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иологиян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ір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саласы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5"/>
          <p:cNvSpPr/>
          <p:nvPr/>
        </p:nvSpPr>
        <p:spPr>
          <a:xfrm>
            <a:off x="2771640" y="3500280"/>
            <a:ext cx="3456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Клеткадағы нукл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қышылын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 зерттей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1870 ж Мишер лейк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ядросынан нукл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қышқылын тап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5867280" y="0"/>
            <a:ext cx="3276720" cy="17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Тұқым қуалаушыл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пен өзгергішті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заңдылықтарын жа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деңгейінде  зертте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мүмкіндік бер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7"/>
          <p:cNvSpPr/>
          <p:nvPr/>
        </p:nvSpPr>
        <p:spPr>
          <a:xfrm>
            <a:off x="5580000" y="4869000"/>
            <a:ext cx="3564000" cy="19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оршаған ортаның бұзылуы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байланысты жасу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ұрылымының өзгеруін соны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салдарынанаурудың  алдын 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шаралары қарастырылады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V="1">
            <a:off x="3203640" y="270792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3203640" y="3068640"/>
            <a:ext cx="316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1835280" y="335772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124000" y="335772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90800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 flipV="1">
            <a:off x="3924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8316720" y="429264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680400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908000" y="0"/>
            <a:ext cx="5185080" cy="765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Жасушаның ашылу тарих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0" y="1341360"/>
            <a:ext cx="3995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09 ж Г.Гал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микроскопты құрастырды</a:t>
            </a:r>
            <a:r>
              <a:rPr b="0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680000" y="1268280"/>
            <a:ext cx="4464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65 ж Р.Гук  микроско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ның майда ұяшық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ұратынын көр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 терминін қолд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124000" y="3213000"/>
            <a:ext cx="4464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А.Левенгук қан құрам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эритроциттің бір жасуш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екенін анықт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324000" y="5373720"/>
            <a:ext cx="352872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1 ж Р.Бро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өсімдік жасушасын аш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076720" y="5300640"/>
            <a:ext cx="3745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9 ж Я.Пурк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ішінде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сұйықтық протоплаз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ап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39640" y="189000"/>
            <a:ext cx="7848720" cy="1152360"/>
          </a:xfrm>
          <a:custGeom>
            <a:avLst/>
            <a:gdLst>
              <a:gd name="textAreaLeft" fmla="*/ 0 w 7848720"/>
              <a:gd name="textAreaRight" fmla="*/ 7849080 w 784872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Arial"/>
              </a:rPr>
              <a:t>Жасуша теориясының қалыптасу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0" y="1773360"/>
            <a:ext cx="5580000" cy="2447640"/>
          </a:xfrm>
          <a:prstGeom prst="cloudCallout">
            <a:avLst>
              <a:gd name="adj1" fmla="val -39560"/>
              <a:gd name="adj2" fmla="val -68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Ботаник М.Шлейден зоолог Т.Шванн  өсімдік пен жануар жасушасын салыстырып,олардың ұқсастықтарын  тап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50920" y="4941720"/>
            <a:ext cx="406692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әтижесінде жасуш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теориясы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егізін қа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500720" y="3068640"/>
            <a:ext cx="4643280" cy="2881440"/>
          </a:xfrm>
          <a:prstGeom prst="cloudCallout">
            <a:avLst>
              <a:gd name="adj1" fmla="val -55574"/>
              <a:gd name="adj2" fmla="val 5710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1858 ж Р. Вирхов “әрбір жасуша өзіндей жасушаның бөлінуі арқылы пайда болады” деген қорытынды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кел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Times New Roman"/>
              </a:rPr>
              <a:t>Жасуша теориясының қағидала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1.Жасуша –барлық тірі ағзалардың ең кіші өлшем бірлігі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2.Әр түрлі ағзалардың жасушалары құрылысы ,құрылымы, химиялық құрамы зат алмасуы негізгі тіршілік  әрекеті жөнінен ұқс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3.Ағзалардың жасуша құрылыстарының  ұқсас болуы -өсімдік пен жануарлардың шығу тегінің бар екенін дәлелі болып табы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4.Жасушалар бөліну арқылы көбей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5. Жасушаның негізгі құрылымдық  бөлігіне цитоплазма  және жасуша мембранасы  жа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6. Көп жасушалы ағзалардың жасушаларының ең негізгі бөлігі –ядро,тұқым қуалау аппараты сақталып келесіұрпақтарға беріліп о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547640" y="189000"/>
            <a:ext cx="684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Arial"/>
              </a:rPr>
              <a:t>Тірі ағзалар жасушалары жетілуіне байланы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0" y="1197000"/>
            <a:ext cx="360036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Про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сыз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076720" y="1197000"/>
            <a:ext cx="406728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Эу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лы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067280" y="3213000"/>
            <a:ext cx="4608360" cy="216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Жасушаны зерттеу әдісі. Бұл мироскоп құралы болып табыл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06-1-n_tif0"/>
          <p:cNvPicPr/>
          <p:nvPr/>
        </p:nvPicPr>
        <p:blipFill>
          <a:blip r:embed="rId1"/>
          <a:stretch/>
        </p:blipFill>
        <p:spPr>
          <a:xfrm>
            <a:off x="395280" y="2276640"/>
            <a:ext cx="3456000" cy="458136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 flipH="1">
            <a:off x="3276360" y="90792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427640" y="907920"/>
            <a:ext cx="86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cc3300"/>
                </a:solidFill>
                <a:latin typeface="Arial"/>
              </a:rPr>
              <a:t>Кестені толтырыңдар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06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ерттеуші ғалымда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рзім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асуша теориясын  жасаудағы еңбектер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04:46Z</dcterms:created>
  <dc:creator>Жанат Муратбаева</dc:creator>
  <dc:description/>
  <dc:language>en-US</dc:language>
  <cp:lastModifiedBy>Majitov Nurken</cp:lastModifiedBy>
  <dcterms:modified xsi:type="dcterms:W3CDTF">2011-11-30T10:05:28Z</dcterms:modified>
  <cp:revision>1</cp:revision>
  <dc:subject/>
  <dc:title>Жасушаның зерттелу тарихы, жасуша теориясы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20000000000010250500207f7000400038000</vt:lpwstr>
  </property>
</Properties>
</file>